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wmf" ContentType="image/x-wmf"/>
  <Override PartName="/ppt/media/image9.wmf" ContentType="image/x-wmf"/>
  <Override PartName="/ppt/media/image14.png" ContentType="image/png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.jpeg" ContentType="image/jpe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571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" Target="slide1.xml"/><Relationship Id="rId6" Type="http://schemas.openxmlformats.org/officeDocument/2006/relationships/slide" Target="slide6.xml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536663" descr="图片144"/>
          <p:cNvPicPr/>
          <p:nvPr/>
        </p:nvPicPr>
        <p:blipFill>
          <a:blip r:embed="rId3"/>
          <a:stretch/>
        </p:blipFill>
        <p:spPr>
          <a:xfrm>
            <a:off x="3835440" y="711360"/>
            <a:ext cx="2816280" cy="285480"/>
          </a:xfrm>
          <a:prstGeom prst="rect">
            <a:avLst/>
          </a:prstGeom>
          <a:ln w="0">
            <a:noFill/>
          </a:ln>
        </p:spPr>
      </p:pic>
      <p:sp>
        <p:nvSpPr>
          <p:cNvPr id="38" name="矩形 536644">
            <a:hlinkClick r:id="rId4" action="ppaction://hlinksldjump"/>
          </p:cNvPr>
          <p:cNvSpPr/>
          <p:nvPr/>
        </p:nvSpPr>
        <p:spPr>
          <a:xfrm>
            <a:off x="3878280" y="749160"/>
            <a:ext cx="919080" cy="209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矩形 536650">
            <a:hlinkClick r:id="rId5" action="ppaction://hlinksldjump"/>
          </p:cNvPr>
          <p:cNvSpPr/>
          <p:nvPr/>
        </p:nvSpPr>
        <p:spPr>
          <a:xfrm>
            <a:off x="1917720" y="542880"/>
            <a:ext cx="1434960" cy="380880"/>
          </a:xfrm>
          <a:prstGeom prst="rect">
            <a:avLst/>
          </a:prstGeom>
          <a:solidFill>
            <a:srgbClr val="bbe0e3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矩形 536664">
            <a:hlinkClick r:id="rId6" action="ppaction://hlinksldjump"/>
          </p:cNvPr>
          <p:cNvSpPr/>
          <p:nvPr/>
        </p:nvSpPr>
        <p:spPr>
          <a:xfrm>
            <a:off x="4994280" y="749160"/>
            <a:ext cx="1089000" cy="209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368675"/>
          <p:cNvSpPr/>
          <p:nvPr/>
        </p:nvSpPr>
        <p:spPr>
          <a:xfrm>
            <a:off x="1101600" y="1994040"/>
            <a:ext cx="6940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单元整合提升</a:t>
            </a:r>
            <a:endParaRPr b="1" lang="en-US" sz="4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0" name="Picture 5" descr="2004121511115859383"/>
          <p:cNvPicPr/>
          <p:nvPr/>
        </p:nvPicPr>
        <p:blipFill>
          <a:blip r:embed="rId1"/>
          <a:stretch/>
        </p:blipFill>
        <p:spPr>
          <a:xfrm>
            <a:off x="19080" y="4229280"/>
            <a:ext cx="90993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文本框 1045505"/>
          <p:cNvSpPr/>
          <p:nvPr/>
        </p:nvSpPr>
        <p:spPr>
          <a:xfrm>
            <a:off x="244440" y="1157400"/>
            <a:ext cx="862020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判断。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圆柱的体积比它的表面积大。（ 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等底等高的长方体的体积和圆柱的体积相等。（ 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压路机滚动一周能压多少路面是求压路机的占地面积。（ 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两个圆柱的表面积相等，它们的体积也一定相等。（ 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圆锥的体积是圆柱体积的  。（ 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一个圆柱的高扩大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倍，底面积缩小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倍，它的体积不变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07" name="对象 1045506"/>
          <p:cNvGraphicFramePr/>
          <p:nvPr/>
        </p:nvGraphicFramePr>
        <p:xfrm>
          <a:off x="4186080" y="3774960"/>
          <a:ext cx="19080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对象 104550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86080" y="3774960"/>
                    <a:ext cx="1908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文本框 1045507"/>
          <p:cNvSpPr/>
          <p:nvPr/>
        </p:nvSpPr>
        <p:spPr>
          <a:xfrm>
            <a:off x="4748040" y="1613160"/>
            <a:ext cx="879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0" name="文本框 1045508"/>
          <p:cNvSpPr/>
          <p:nvPr/>
        </p:nvSpPr>
        <p:spPr>
          <a:xfrm>
            <a:off x="6703920" y="2121120"/>
            <a:ext cx="879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1" name="文本框 1045509"/>
          <p:cNvSpPr/>
          <p:nvPr/>
        </p:nvSpPr>
        <p:spPr>
          <a:xfrm>
            <a:off x="7834320" y="2629440"/>
            <a:ext cx="879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2" name="文本框 1045510"/>
          <p:cNvSpPr/>
          <p:nvPr/>
        </p:nvSpPr>
        <p:spPr>
          <a:xfrm>
            <a:off x="7275600" y="3124440"/>
            <a:ext cx="879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3" name="文本框 1045511"/>
          <p:cNvSpPr/>
          <p:nvPr/>
        </p:nvSpPr>
        <p:spPr>
          <a:xfrm>
            <a:off x="4748040" y="3632760"/>
            <a:ext cx="879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4" name="文本框 1045512"/>
          <p:cNvSpPr/>
          <p:nvPr/>
        </p:nvSpPr>
        <p:spPr>
          <a:xfrm>
            <a:off x="7834320" y="4635720"/>
            <a:ext cx="879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文本框 1046529"/>
          <p:cNvSpPr/>
          <p:nvPr/>
        </p:nvSpPr>
        <p:spPr>
          <a:xfrm>
            <a:off x="254160" y="1698480"/>
            <a:ext cx="86198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选择。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下面（  ）杯中的饮料最多。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16" name="图片 1046530" descr=""/>
          <p:cNvPicPr/>
          <p:nvPr/>
        </p:nvPicPr>
        <p:blipFill>
          <a:blip r:embed="rId1"/>
          <a:stretch/>
        </p:blipFill>
        <p:spPr>
          <a:xfrm>
            <a:off x="765000" y="2975040"/>
            <a:ext cx="7118640" cy="1974960"/>
          </a:xfrm>
          <a:prstGeom prst="rect">
            <a:avLst/>
          </a:prstGeom>
          <a:ln w="0">
            <a:noFill/>
          </a:ln>
        </p:spPr>
      </p:pic>
      <p:sp>
        <p:nvSpPr>
          <p:cNvPr id="117" name="文本框 1046531"/>
          <p:cNvSpPr/>
          <p:nvPr/>
        </p:nvSpPr>
        <p:spPr>
          <a:xfrm>
            <a:off x="1573200" y="2159280"/>
            <a:ext cx="917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1047553"/>
          <p:cNvSpPr/>
          <p:nvPr/>
        </p:nvSpPr>
        <p:spPr>
          <a:xfrm>
            <a:off x="254160" y="1600200"/>
            <a:ext cx="86198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在一个圆柱体中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挖去一个最大的圆锥体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成为一个容器，这个容器的体积是原来圆柱的（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                 B.                C.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求一个圆锥形沙堆的占地面积，是求这个圆锥的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侧面积   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体积    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底面积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（弱项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制作烟囱需要多少铁皮，是求烟囱的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侧面积   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表面积  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体积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19" name="对象 1047555"/>
          <p:cNvGraphicFramePr/>
          <p:nvPr/>
        </p:nvGraphicFramePr>
        <p:xfrm>
          <a:off x="635040" y="2693880"/>
          <a:ext cx="19044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对象 10475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2693880"/>
                    <a:ext cx="1904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对象 1047556"/>
          <p:cNvGraphicFramePr/>
          <p:nvPr/>
        </p:nvGraphicFramePr>
        <p:xfrm>
          <a:off x="3301920" y="2685960"/>
          <a:ext cx="20340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对象 10475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01920" y="2685960"/>
                    <a:ext cx="2034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对象 1047557"/>
          <p:cNvGraphicFramePr/>
          <p:nvPr/>
        </p:nvGraphicFramePr>
        <p:xfrm>
          <a:off x="5838840" y="2703600"/>
          <a:ext cx="20304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对象 104755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38840" y="2703600"/>
                    <a:ext cx="2030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文本框 1047558"/>
          <p:cNvSpPr/>
          <p:nvPr/>
        </p:nvSpPr>
        <p:spPr>
          <a:xfrm>
            <a:off x="3529080" y="2057760"/>
            <a:ext cx="663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文本框 1047559"/>
          <p:cNvSpPr/>
          <p:nvPr/>
        </p:nvSpPr>
        <p:spPr>
          <a:xfrm>
            <a:off x="7034040" y="3061080"/>
            <a:ext cx="663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文本框 1047560"/>
          <p:cNvSpPr/>
          <p:nvPr/>
        </p:nvSpPr>
        <p:spPr>
          <a:xfrm>
            <a:off x="6894360" y="4077000"/>
            <a:ext cx="663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文本框 1048577"/>
          <p:cNvSpPr/>
          <p:nvPr/>
        </p:nvSpPr>
        <p:spPr>
          <a:xfrm>
            <a:off x="254160" y="1579680"/>
            <a:ext cx="86198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一个圆柱的侧面积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25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平方厘米，底面半径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，它的高是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1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    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2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 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4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一个圆柱侧面展开是正方形，这个圆柱底面周长与高的比是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2π:1  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1:1  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π:1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无法确定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9" name="文本框 1048578"/>
          <p:cNvSpPr/>
          <p:nvPr/>
        </p:nvSpPr>
        <p:spPr>
          <a:xfrm>
            <a:off x="1012680" y="2045160"/>
            <a:ext cx="641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文本框 1048579"/>
          <p:cNvSpPr/>
          <p:nvPr/>
        </p:nvSpPr>
        <p:spPr>
          <a:xfrm>
            <a:off x="7756560" y="3543840"/>
            <a:ext cx="641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文本框 1049601"/>
          <p:cNvSpPr/>
          <p:nvPr/>
        </p:nvSpPr>
        <p:spPr>
          <a:xfrm>
            <a:off x="254160" y="1490760"/>
            <a:ext cx="86198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一个长方形的长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cm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宽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cm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。以它的长为轴旋转一周所得到的圆柱体的体积是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75.36c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          B.150.72c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56.52c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          D.226.08c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将一个圆柱体铝块熔铸成圆锥体，它的（  ）不变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体积  　　   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表面积  　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底面积       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侧面积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2" name="文本框 1049602"/>
          <p:cNvSpPr/>
          <p:nvPr/>
        </p:nvSpPr>
        <p:spPr>
          <a:xfrm>
            <a:off x="2889360" y="1956240"/>
            <a:ext cx="799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文本框 1049603"/>
          <p:cNvSpPr/>
          <p:nvPr/>
        </p:nvSpPr>
        <p:spPr>
          <a:xfrm>
            <a:off x="5848200" y="3467520"/>
            <a:ext cx="800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文本框 1050625"/>
          <p:cNvSpPr/>
          <p:nvPr/>
        </p:nvSpPr>
        <p:spPr>
          <a:xfrm>
            <a:off x="195120" y="1447920"/>
            <a:ext cx="862020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看图解决问题。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计算下面圆柱的体积和表面积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表面积：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.14×3×3×2+3.14× 3×2×10=244.9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平方分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体积：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.14×3×3×10=282.6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立方分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35" name="组合 1050628"/>
          <p:cNvGrpSpPr/>
          <p:nvPr/>
        </p:nvGrpSpPr>
        <p:grpSpPr>
          <a:xfrm>
            <a:off x="3075120" y="2652840"/>
            <a:ext cx="2603520" cy="1263600"/>
            <a:chOff x="3075120" y="2652840"/>
            <a:chExt cx="2603520" cy="1263600"/>
          </a:xfrm>
        </p:grpSpPr>
        <p:sp>
          <p:nvSpPr>
            <p:cNvPr id="136" name="矩形 1050627"/>
            <p:cNvSpPr/>
            <p:nvPr/>
          </p:nvSpPr>
          <p:spPr>
            <a:xfrm>
              <a:off x="3075120" y="2652840"/>
              <a:ext cx="259884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37" name="图片 1050629" descr=""/>
            <p:cNvPicPr/>
            <p:nvPr/>
          </p:nvPicPr>
          <p:blipFill>
            <a:blip r:embed="rId1"/>
            <a:stretch/>
          </p:blipFill>
          <p:spPr>
            <a:xfrm>
              <a:off x="3075120" y="2652840"/>
              <a:ext cx="2603520" cy="1263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文本框 1051649"/>
          <p:cNvSpPr/>
          <p:nvPr/>
        </p:nvSpPr>
        <p:spPr>
          <a:xfrm>
            <a:off x="254160" y="1335240"/>
            <a:ext cx="8619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计算下面图形的体积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39" name="组合 1051652"/>
          <p:cNvGrpSpPr/>
          <p:nvPr/>
        </p:nvGrpSpPr>
        <p:grpSpPr>
          <a:xfrm>
            <a:off x="1300320" y="1960560"/>
            <a:ext cx="2398680" cy="3627360"/>
            <a:chOff x="1300320" y="1960560"/>
            <a:chExt cx="2398680" cy="3627360"/>
          </a:xfrm>
        </p:grpSpPr>
        <p:sp>
          <p:nvSpPr>
            <p:cNvPr id="140" name="矩形 1051651"/>
            <p:cNvSpPr/>
            <p:nvPr/>
          </p:nvSpPr>
          <p:spPr>
            <a:xfrm>
              <a:off x="1300320" y="1960560"/>
              <a:ext cx="2394000" cy="36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41" name="图片 1051653" descr=""/>
            <p:cNvPicPr/>
            <p:nvPr/>
          </p:nvPicPr>
          <p:blipFill>
            <a:blip r:embed="rId1"/>
            <a:stretch/>
          </p:blipFill>
          <p:spPr>
            <a:xfrm>
              <a:off x="1300320" y="1960560"/>
              <a:ext cx="2398680" cy="362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文本框 1051654"/>
          <p:cNvSpPr/>
          <p:nvPr/>
        </p:nvSpPr>
        <p:spPr>
          <a:xfrm>
            <a:off x="3745080" y="3103560"/>
            <a:ext cx="54082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.14×3×3×6+3.14×3×3×5×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=216.66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立方厘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43" name="对象 1051655"/>
          <p:cNvGraphicFramePr/>
          <p:nvPr/>
        </p:nvGraphicFramePr>
        <p:xfrm>
          <a:off x="8074080" y="3159000"/>
          <a:ext cx="190440" cy="60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对象 105165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74080" y="3159000"/>
                    <a:ext cx="1904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文本框 1052673"/>
          <p:cNvSpPr/>
          <p:nvPr/>
        </p:nvSpPr>
        <p:spPr>
          <a:xfrm>
            <a:off x="233280" y="1066680"/>
            <a:ext cx="862020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解决问题。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把一个长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米的圆柱，平均分成三段圆柱，表面积增加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2.5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平方分米。原来这个圆柱体积是多少立方分米？ 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2.56÷4×6=18.84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立方分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原来这个圆柱体积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8.84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立方分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把一块长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5.7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，宽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，高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的长方体钢坯熔化后铸成底面半径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的圆柱体，圆柱体的高是多少厘米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?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5.7×10×8÷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.14×8×8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=6.25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厘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圆柱体的高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.25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厘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文本框 1053697"/>
          <p:cNvSpPr/>
          <p:nvPr/>
        </p:nvSpPr>
        <p:spPr>
          <a:xfrm>
            <a:off x="274680" y="1886040"/>
            <a:ext cx="862020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右面的圆柱沿直径竖方向切开，表面积增加了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平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方厘米，求原来圆柱的体积。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72÷2÷4=9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厘米）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.14×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÷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2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9=113.04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立方厘米）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原来圆柱的体积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13.04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立方厘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7" name="图片 1053698" descr=""/>
          <p:cNvPicPr/>
          <p:nvPr/>
        </p:nvPicPr>
        <p:blipFill>
          <a:blip r:embed="rId1"/>
          <a:stretch/>
        </p:blipFill>
        <p:spPr>
          <a:xfrm>
            <a:off x="7377120" y="1987560"/>
            <a:ext cx="128916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文本框 1057793"/>
          <p:cNvSpPr/>
          <p:nvPr/>
        </p:nvSpPr>
        <p:spPr>
          <a:xfrm>
            <a:off x="254160" y="1698480"/>
            <a:ext cx="86198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（弱项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一个圆柱形水池底面半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米，池深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米，如果在水池的底面和四周涂上水泥，需涂水泥的面积约有多少平方米？水池最多能盛水约多少立方米？（得数保留整数）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.14×2×2+3.14×2×2×1.5=31.4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平方米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平方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.14×2×2×1.5=18.84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立方米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8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立方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需涂水泥的面积约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平方米，水池最多能盛水约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8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立方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377026" descr=""/>
          <p:cNvPicPr/>
          <p:nvPr/>
        </p:nvPicPr>
        <p:blipFill>
          <a:blip r:embed="rId1"/>
          <a:srcRect l="0" t="0" r="0" b="33158"/>
          <a:stretch/>
        </p:blipFill>
        <p:spPr>
          <a:xfrm>
            <a:off x="317520" y="1212840"/>
            <a:ext cx="8826480" cy="2995560"/>
          </a:xfrm>
          <a:prstGeom prst="rect">
            <a:avLst/>
          </a:prstGeom>
          <a:ln w="0">
            <a:noFill/>
          </a:ln>
        </p:spPr>
      </p:pic>
      <p:pic>
        <p:nvPicPr>
          <p:cNvPr id="82" name="图片 377027" descr=""/>
          <p:cNvPicPr/>
          <p:nvPr/>
        </p:nvPicPr>
        <p:blipFill>
          <a:blip r:embed="rId2"/>
          <a:stretch/>
        </p:blipFill>
        <p:spPr>
          <a:xfrm>
            <a:off x="146160" y="4113360"/>
            <a:ext cx="2062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文本框 1058817"/>
          <p:cNvSpPr/>
          <p:nvPr/>
        </p:nvSpPr>
        <p:spPr>
          <a:xfrm>
            <a:off x="254160" y="1508040"/>
            <a:ext cx="86198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一个装满玉米的圆柱形粮囤，底面周长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.28 m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高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 m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。如果将这些玉米堆成一个高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m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圆锥形的玉米堆，圆锥底面积是多少平方米？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.28÷3.14÷2=1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m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.14×1</a:t>
            </a:r>
            <a:r>
              <a:rPr b="1" lang="en-US" sz="22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2=6.28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m</a:t>
            </a:r>
            <a:r>
              <a:rPr b="1" lang="en-US" sz="2200" spc="-1" strike="noStrike" baseline="30000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.28×3÷1=18.84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m</a:t>
            </a:r>
            <a:r>
              <a:rPr b="1" lang="en-US" sz="22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圆锥底面积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8.84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平方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文本框 1059841"/>
          <p:cNvSpPr/>
          <p:nvPr/>
        </p:nvSpPr>
        <p:spPr>
          <a:xfrm>
            <a:off x="254160" y="1181160"/>
            <a:ext cx="8619840" cy="39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动脑筋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圆柱和圆锥的体积比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∶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底面半径的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∶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那么圆柱和圆锥的高的比是多少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底面半径比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∶3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，则底面积的比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∶9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圆柱的高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=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圆锥的高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=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圆柱的高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∶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圆锥的高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=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圆柱和圆锥的高的比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5∶16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51" name="对象 1059842"/>
          <p:cNvGraphicFramePr/>
          <p:nvPr/>
        </p:nvGraphicFramePr>
        <p:xfrm>
          <a:off x="1689120" y="3295800"/>
          <a:ext cx="199404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对象 10598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9120" y="3295800"/>
                    <a:ext cx="19940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对象 1059843"/>
          <p:cNvGraphicFramePr/>
          <p:nvPr/>
        </p:nvGraphicFramePr>
        <p:xfrm>
          <a:off x="1674720" y="3963960"/>
          <a:ext cx="27939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对象 105984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4720" y="3963960"/>
                    <a:ext cx="27939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对象 1059844"/>
          <p:cNvGraphicFramePr/>
          <p:nvPr/>
        </p:nvGraphicFramePr>
        <p:xfrm>
          <a:off x="3038400" y="4572000"/>
          <a:ext cx="12067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对象 105984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38400" y="4572000"/>
                    <a:ext cx="12067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737307" descr=""/>
          <p:cNvPicPr/>
          <p:nvPr/>
        </p:nvPicPr>
        <p:blipFill>
          <a:blip r:embed="rId1"/>
          <a:stretch/>
        </p:blipFill>
        <p:spPr>
          <a:xfrm>
            <a:off x="1027080" y="1258920"/>
            <a:ext cx="721836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055745" descr=""/>
          <p:cNvPicPr/>
          <p:nvPr/>
        </p:nvPicPr>
        <p:blipFill>
          <a:blip r:embed="rId1"/>
          <a:stretch/>
        </p:blipFill>
        <p:spPr>
          <a:xfrm>
            <a:off x="38160" y="1512720"/>
            <a:ext cx="904536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文本框 1025025"/>
          <p:cNvSpPr/>
          <p:nvPr/>
        </p:nvSpPr>
        <p:spPr>
          <a:xfrm>
            <a:off x="254160" y="1231920"/>
            <a:ext cx="8619840" cy="35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单元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题通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融汇考点：圆柱的表面积、圆柱的体积、圆锥的体积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把一个棱长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 dm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正方体木块切削成一个最大的圆柱，把这个圆柱再切削成一个最大的圆锥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圆柱的体积是多少？表面积是多少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体积：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1.195 dm</a:t>
            </a:r>
            <a:r>
              <a:rPr b="1" lang="en-US" sz="2200" spc="-1" strike="noStrike" baseline="30000">
                <a:solidFill>
                  <a:srgbClr val="ff0000"/>
                </a:solidFill>
                <a:latin typeface="宋体"/>
              </a:rPr>
              <a:t>3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       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表面积：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2.39 dm</a:t>
            </a:r>
            <a:r>
              <a:rPr b="1" lang="en-US" sz="22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圆锥的体积是多少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7.065 dm</a:t>
            </a:r>
            <a:r>
              <a:rPr b="1" lang="en-US" sz="2200" spc="-1" strike="noStrike" baseline="30000">
                <a:solidFill>
                  <a:srgbClr val="ff0000"/>
                </a:solidFill>
                <a:latin typeface="宋体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1012737"/>
          <p:cNvSpPr/>
          <p:nvPr/>
        </p:nvSpPr>
        <p:spPr>
          <a:xfrm>
            <a:off x="196920" y="1603440"/>
            <a:ext cx="87026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填一填。（每题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共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圆柱有（     ）条高，圆锥有（   ）条高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把一个长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，宽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的长方形卷成一个圆柱形纸筒。这个纸筒的侧面积是（   ）平方厘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（弱项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一个圆锥的体积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立方分米，高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米，这个圆锥的底面积是（    ）平方分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一个盛满水的圆锥体容器高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，如果把水全部倒进与它等底等高的圆柱体容器中，则水高（  ）厘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文本框 1012748"/>
          <p:cNvSpPr/>
          <p:nvPr/>
        </p:nvSpPr>
        <p:spPr>
          <a:xfrm>
            <a:off x="1487520" y="2070360"/>
            <a:ext cx="1977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无数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文本框 1012749"/>
          <p:cNvSpPr/>
          <p:nvPr/>
        </p:nvSpPr>
        <p:spPr>
          <a:xfrm>
            <a:off x="4659480" y="2070360"/>
            <a:ext cx="1234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一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9" name="文本框 1012750"/>
          <p:cNvSpPr/>
          <p:nvPr/>
        </p:nvSpPr>
        <p:spPr>
          <a:xfrm>
            <a:off x="2130480" y="3073680"/>
            <a:ext cx="1238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9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0" name="文本框 1012751"/>
          <p:cNvSpPr/>
          <p:nvPr/>
        </p:nvSpPr>
        <p:spPr>
          <a:xfrm>
            <a:off x="1733400" y="4077000"/>
            <a:ext cx="1613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7.5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文本框 1012752"/>
          <p:cNvSpPr/>
          <p:nvPr/>
        </p:nvSpPr>
        <p:spPr>
          <a:xfrm>
            <a:off x="4216320" y="5080320"/>
            <a:ext cx="863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文本框 1013761"/>
          <p:cNvSpPr/>
          <p:nvPr/>
        </p:nvSpPr>
        <p:spPr>
          <a:xfrm>
            <a:off x="244440" y="1320840"/>
            <a:ext cx="862020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一个圆柱和圆锥等底等高，圆柱的体积比圆锥的体积大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立方厘米。圆柱的体积是（   ）立方厘米，圆锥的体积是（  ）立方厘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一个圆柱的底面半径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，把它的侧面沿高剪开后得到一个正方形。这个圆柱的高是（      ）厘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个同样大的圆锥能熔铸成（  ）个与它等底等高的圆柱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一个圆柱的底面半径扩大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倍，高不变。侧面积扩大（  ）倍，体积扩大（  ）倍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3" name="文本框 1013771"/>
          <p:cNvSpPr/>
          <p:nvPr/>
        </p:nvSpPr>
        <p:spPr>
          <a:xfrm>
            <a:off x="2590920" y="1778400"/>
            <a:ext cx="1536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8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文本框 1013772"/>
          <p:cNvSpPr/>
          <p:nvPr/>
        </p:nvSpPr>
        <p:spPr>
          <a:xfrm>
            <a:off x="6829560" y="1778400"/>
            <a:ext cx="1073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文本框 1013773"/>
          <p:cNvSpPr/>
          <p:nvPr/>
        </p:nvSpPr>
        <p:spPr>
          <a:xfrm>
            <a:off x="2666880" y="3289680"/>
            <a:ext cx="2934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8.84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文本框 1013774"/>
          <p:cNvSpPr/>
          <p:nvPr/>
        </p:nvSpPr>
        <p:spPr>
          <a:xfrm>
            <a:off x="4302000" y="3797640"/>
            <a:ext cx="1073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7" name="文本框 1013775"/>
          <p:cNvSpPr/>
          <p:nvPr/>
        </p:nvSpPr>
        <p:spPr>
          <a:xfrm>
            <a:off x="7248600" y="4293000"/>
            <a:ext cx="1073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8" name="文本框 1013776"/>
          <p:cNvSpPr/>
          <p:nvPr/>
        </p:nvSpPr>
        <p:spPr>
          <a:xfrm>
            <a:off x="1343160" y="4800960"/>
            <a:ext cx="1073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1043457"/>
          <p:cNvSpPr/>
          <p:nvPr/>
        </p:nvSpPr>
        <p:spPr>
          <a:xfrm>
            <a:off x="254160" y="1422360"/>
            <a:ext cx="86198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一个圆柱和一个圆锥的底面积和体积分别相等，如果圆锥的高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，圆柱的高是（  ）厘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一个圆锥的体积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6 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底面积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9 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这个圆锥的高是（   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把一个高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 cm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圆柱削成最大圆锥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这个圆锥的体积是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9.42 c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它的底面积是（      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用一个棱长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2cm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正方体削成一个最大的圆锥，削去部分的体积是（         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文本框 1043458"/>
          <p:cNvSpPr/>
          <p:nvPr/>
        </p:nvSpPr>
        <p:spPr>
          <a:xfrm>
            <a:off x="3252960" y="1879920"/>
            <a:ext cx="377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文本框 1043459"/>
          <p:cNvSpPr/>
          <p:nvPr/>
        </p:nvSpPr>
        <p:spPr>
          <a:xfrm>
            <a:off x="544680" y="2883240"/>
            <a:ext cx="86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2 m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文本框 1043460"/>
          <p:cNvSpPr/>
          <p:nvPr/>
        </p:nvSpPr>
        <p:spPr>
          <a:xfrm>
            <a:off x="3513240" y="3899160"/>
            <a:ext cx="1469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.71 cm</a:t>
            </a:r>
            <a:r>
              <a:rPr b="1" lang="en-US" sz="22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文本框 1043461"/>
          <p:cNvSpPr/>
          <p:nvPr/>
        </p:nvSpPr>
        <p:spPr>
          <a:xfrm>
            <a:off x="988920" y="4902480"/>
            <a:ext cx="1959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275.84 cm</a:t>
            </a:r>
            <a:r>
              <a:rPr b="1" lang="en-US" sz="2200" spc="-1" strike="noStrike" baseline="30000">
                <a:solidFill>
                  <a:srgbClr val="ff0000"/>
                </a:solidFill>
                <a:latin typeface="宋体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文本框 1044481"/>
          <p:cNvSpPr/>
          <p:nvPr/>
        </p:nvSpPr>
        <p:spPr>
          <a:xfrm>
            <a:off x="223920" y="2190600"/>
            <a:ext cx="8620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两个完全一样的圆柱能拼成一个高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dm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圆柱，但表面积减少了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0.24d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。这个拼成的圆柱的体积是（        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5" name="文本框 1044482"/>
          <p:cNvSpPr/>
          <p:nvPr/>
        </p:nvSpPr>
        <p:spPr>
          <a:xfrm>
            <a:off x="4889520" y="2654640"/>
            <a:ext cx="2298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00.48 dm</a:t>
            </a:r>
            <a:r>
              <a:rPr b="1" lang="en-US" sz="2200" spc="-1" strike="noStrike" baseline="30000">
                <a:solidFill>
                  <a:srgbClr val="ff0000"/>
                </a:solidFill>
                <a:latin typeface="宋体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2T00:30:06Z</dcterms:created>
  <dc:creator>世纪金榜</dc:creator>
  <dc:description/>
  <dc:language>en-US</dc:language>
  <cp:lastModifiedBy>admin</cp:lastModifiedBy>
  <dcterms:modified xsi:type="dcterms:W3CDTF">2018-01-22T00:43:35Z</dcterms:modified>
  <cp:revision>1292</cp:revision>
  <dc:subject/>
  <dc:title>世纪金榜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  <property fmtid="{D5CDD505-2E9C-101B-9397-08002B2CF9AE}" pid="3" name="Version">
    <vt:r8>1</vt:r8>
  </property>
</Properties>
</file>